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9.png" ContentType="image/png"/>
  <Override PartName="/ppt/media/TextToSpeech15.wav" ContentType="audio/x-wav"/>
  <Override PartName="/ppt/media/TextToSpeech12.wav" ContentType="audio/x-wav"/>
  <Override PartName="/ppt/media/image16.png" ContentType="image/png"/>
  <Override PartName="/ppt/media/image15.png" ContentType="image/png"/>
  <Override PartName="/ppt/media/TextToSpeech11.wav" ContentType="audio/x-wav"/>
  <Override PartName="/ppt/media/image20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TextToSpeech16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22.png" ContentType="image/png"/>
  <Override PartName="/ppt/media/image10.wmf" ContentType="image/x-wmf"/>
  <Override PartName="/ppt/media/image23.png" ContentType="image/png"/>
  <Override PartName="/ppt/media/image18.png" ContentType="image/png"/>
  <Override PartName="/ppt/media/TextToSpeech14.wav" ContentType="audio/x-wav"/>
  <Override PartName="/ppt/media/image6.jpeg" ContentType="image/jpeg"/>
  <Override PartName="/ppt/media/TextToSpeech8.wav" ContentType="audio/x-wav"/>
  <Override PartName="/ppt/media/image5.png" ContentType="image/png"/>
  <Override PartName="/ppt/media/image3.wmf" ContentType="image/x-wmf"/>
  <Override PartName="/ppt/media/image2.wmf" ContentType="image/x-wmf"/>
  <Override PartName="/ppt/media/TextToSpeech6.wav" ContentType="audio/x-wav"/>
  <Override PartName="/ppt/media/image1.png" ContentType="image/png"/>
  <Override PartName="/ppt/media/TextToSpeech4.wav" ContentType="audio/x-wav"/>
  <Override PartName="/ppt/media/TextToSpeech10.wav" ContentType="audio/x-wav"/>
  <Override PartName="/ppt/media/image14.png" ContentType="image/png"/>
  <Override PartName="/ppt/media/TextToSpeech30.wav" ContentType="audio/x-wav"/>
  <Override PartName="/ppt/media/image4.png" ContentType="image/png"/>
  <Override PartName="/ppt/media/TextToSpeech7.wav" ContentType="audio/x-wav"/>
  <Override PartName="/ppt/media/TextToSpeech13.wav" ContentType="audio/x-wav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DB48-4520-48C5-8F74-9BCA40DB40E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33C-A6CB-4202-85F4-785078C063F4}" type="slidenum">
              <a:rPr b="0" lang="pt-PT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46F-3113-4A5A-8DE3-C5AC5626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0C3-FBA6-4AA9-9877-1595C9D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1AB-F527-4158-8D06-206D5C0A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121-9186-459E-9ED5-F2EC997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4D7-B6E3-4390-9CC2-9A636EF6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24D-C846-4B2B-A548-BC74157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FE0-99F5-404D-8D0F-9F1E9C0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E9F-4330-4CC4-BDB4-DE84E3C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AF5-F341-422E-86E4-0694C231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38D-0C6E-4FEC-BB85-0ABFE41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BA4-F9CC-4D6D-BA0E-0EF9FBE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682-087D-4223-8CE6-19100E7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vanda\Os meus documentos\As minhas imagens\frames1\BD04776.WMF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c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46D-C897-4A84-8A13-4C46BFAEEB10}" type="slidenum">
              <a:rPr b="0" lang="pt-PT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" descr="C:\Documents and Settings\vanda\Os meus documentos\As minhas imagens\Disney Clipart 800+\Disney Clipart 800+\Clipart\Disney\MickeyPS\114.wmf"/>
          <p:cNvPicPr/>
          <p:nvPr/>
        </p:nvPicPr>
        <p:blipFill>
          <a:blip r:embed="rId4"/>
          <a:stretch/>
        </p:blipFill>
        <p:spPr>
          <a:xfrm>
            <a:off x="142920" y="214200"/>
            <a:ext cx="2214360" cy="2973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vanda\Os meus documentos\blog\bananers\vanda51 logo  work.png"/>
          <p:cNvPicPr/>
          <p:nvPr/>
        </p:nvPicPr>
        <p:blipFill>
          <a:blip r:embed="rId5"/>
          <a:stretch/>
        </p:blipFill>
        <p:spPr>
          <a:xfrm>
            <a:off x="7929720" y="6143760"/>
            <a:ext cx="121428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7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TextToSpeech3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5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8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6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0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7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1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8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2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3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0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4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1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5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2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6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ítulo 1" descr=""/>
          <p:cNvPicPr/>
          <p:nvPr/>
        </p:nvPicPr>
        <p:blipFill>
          <a:blip r:embed="rId1"/>
          <a:stretch/>
        </p:blipFill>
        <p:spPr>
          <a:xfrm>
            <a:off x="781200" y="1566720"/>
            <a:ext cx="778320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Fita curvada para cima 17" descr=""/>
          <p:cNvPicPr/>
          <p:nvPr/>
        </p:nvPicPr>
        <p:blipFill>
          <a:blip r:embed="rId6"/>
          <a:stretch/>
        </p:blipFill>
        <p:spPr>
          <a:xfrm>
            <a:off x="938160" y="3413160"/>
            <a:ext cx="7407360" cy="1182600"/>
          </a:xfrm>
          <a:prstGeom prst="rect">
            <a:avLst/>
          </a:prstGeom>
          <a:ln w="0">
            <a:noFill/>
          </a:ln>
        </p:spPr>
      </p:pic>
      <p:sp>
        <p:nvSpPr>
          <p:cNvPr id="57" name="Seta entalhada para a direita 19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60" name="Rectângulo 22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61" name="Rectângulo 23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7.wav"/>
                                        </p:tgtEl>
                                      </p:cMediaNode>
                                    </p:audio>
                                    <p:animMotion origin="layout" path="M -1.94444E-006 1.11111E-006 L -0.25989 -0.31482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hamada rectangular arredondada 1"/>
          <p:cNvSpPr/>
          <p:nvPr/>
        </p:nvSpPr>
        <p:spPr>
          <a:xfrm>
            <a:off x="2000160" y="5000760"/>
            <a:ext cx="5429520" cy="785520"/>
          </a:xfrm>
          <a:prstGeom prst="wedgeRoundRectCallout">
            <a:avLst>
              <a:gd name="adj1" fmla="val -38842"/>
              <a:gd name="adj2" fmla="val 50097"/>
              <a:gd name="adj3" fmla="val 16667"/>
            </a:avLst>
          </a:prstGeom>
          <a:solidFill>
            <a:srgbClr val="fa8d3d"/>
          </a:solidFill>
          <a:ln w="255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399"/>
                </a:solidFill>
                <a:latin typeface="Calibri"/>
              </a:rPr>
              <a:t>Thanks for playing!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1" name="Picture 2" descr="C:\Documents and Settings\vanda\Os meus documentos\blog\bananers\vanda51 logo ok.png"/>
          <p:cNvPicPr/>
          <p:nvPr/>
        </p:nvPicPr>
        <p:blipFill>
          <a:blip r:embed="rId1"/>
          <a:stretch/>
        </p:blipFill>
        <p:spPr>
          <a:xfrm>
            <a:off x="2714760" y="1643040"/>
            <a:ext cx="3698640" cy="2786040"/>
          </a:xfrm>
          <a:prstGeom prst="rect">
            <a:avLst/>
          </a:prstGeom>
          <a:ln w="0">
            <a:noFill/>
          </a:ln>
        </p:spPr>
      </p:pic>
      <p:sp>
        <p:nvSpPr>
          <p:cNvPr id="152" name="CaixaDeTexto 3"/>
          <p:cNvSpPr/>
          <p:nvPr/>
        </p:nvSpPr>
        <p:spPr>
          <a:xfrm>
            <a:off x="2857680" y="15717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399"/>
                </a:solidFill>
                <a:latin typeface="Calibri"/>
              </a:rPr>
              <a:t>Created by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328920"/>
            <a:ext cx="738828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9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71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72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8.wav"/>
                                        </p:tgtEl>
                                      </p:cMediaNode>
                                    </p:audio>
                                    <p:animMotion origin="layout" path="M -8.33333E-007 2.96296E-006 L 0.0684 -0.34306 E">
                                      <p:cBhvr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57560"/>
            <a:ext cx="7388280" cy="1438200"/>
          </a:xfrm>
          <a:prstGeom prst="rect">
            <a:avLst/>
          </a:prstGeom>
          <a:ln w="0">
            <a:noFill/>
          </a:ln>
        </p:spPr>
      </p:pic>
      <p:sp>
        <p:nvSpPr>
          <p:cNvPr id="79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0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82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83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0.wav"/>
                                        </p:tgtEl>
                                      </p:cMediaNode>
                                    </p:audio>
                                    <p:animMotion origin="layout" path="M -8.33333E-007 2.96296E-006 L 0.0684 -0.37454 E"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14720"/>
            <a:ext cx="7388280" cy="1481040"/>
          </a:xfrm>
          <a:prstGeom prst="rect">
            <a:avLst/>
          </a:prstGeom>
          <a:ln w="0">
            <a:noFill/>
          </a:ln>
        </p:spPr>
      </p:pic>
      <p:sp>
        <p:nvSpPr>
          <p:cNvPr id="90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91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93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94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1.wav"/>
                                        </p:tgtEl>
                                      </p:cMediaNode>
                                    </p:audio>
                                    <p:animMotion origin="layout" path="M -5.55556E-007 -2.22222E-006 L -0.3151 -0.37801 E">
                                      <p:cBhvr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01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2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04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05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2.wav"/>
                                        </p:tgtEl>
                                      </p:cMediaNode>
                                    </p:audio>
                                    <p:animMotion origin="layout" path="M -5.55556E-007 -2.22222E-006 L 0.11806 -0.33611 E"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11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57560"/>
            <a:ext cx="7388280" cy="1438200"/>
          </a:xfrm>
          <a:prstGeom prst="rect">
            <a:avLst/>
          </a:prstGeom>
          <a:ln w="0">
            <a:noFill/>
          </a:ln>
        </p:spPr>
      </p:pic>
      <p:sp>
        <p:nvSpPr>
          <p:cNvPr id="112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13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15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16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3.wav"/>
                                        </p:tgtEl>
                                      </p:cMediaNode>
                                    </p:audio>
                                    <p:animMotion origin="layout" path="M -5.55556E-007 1.11111E-006 L -0.26788 -0.36737 E">
                                      <p:cBhvr>
                                        <p:cTn id="20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24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26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27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4.wav"/>
                                        </p:tgtEl>
                                      </p:cMediaNode>
                                    </p:audio>
                                    <p:animMotion origin="layout" path="M -1.94444E-006 1.11111E-006 L 0.07084 -0.35695 E">
                                      <p:cBhvr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34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35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37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38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5.wav"/>
                                        </p:tgtEl>
                                      </p:cMediaNode>
                                    </p:audio>
                                    <p:animMotion origin="layout" path="M -5.55556E-007 1.11111E-006 L -0.2993 -0.34653 E">
                                      <p:cBhvr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413160"/>
            <a:ext cx="740736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46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48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49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6.wav"/>
                                        </p:tgtEl>
                                      </p:cMediaNode>
                                    </p:audio>
                                    <p:animMotion origin="layout" path="M -8.33333E-007 2.96296E-006 L 0.03681 -0.31158 E">
                                      <p:cBhvr>
                                        <p:cTn id="30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3:52:07Z</dcterms:created>
  <dc:creator>vanda</dc:creator>
  <dc:description/>
  <dc:language>en-US</dc:language>
  <cp:lastModifiedBy>igal</cp:lastModifiedBy>
  <dcterms:modified xsi:type="dcterms:W3CDTF">2012-05-11T15:05:18Z</dcterms:modified>
  <cp:revision>14</cp:revision>
  <dc:subject/>
  <dc:title>Have or has?</dc:title>
</cp:coreProperties>
</file>